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F5E-687B-4B09-AB64-102CB3F7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0ED-1B35-479D-8097-C62188F6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9A4-CF6C-4C6B-B988-68899091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3C9-A6D8-4513-8F57-604132AB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17D3-6DB0-4973-8B47-18BEA644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B6A3-1613-40A0-8DD9-9E2A3782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45CB-6823-4242-A677-1B503114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1876-29F3-40B8-9B43-5548A6C6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7BB1-836E-4F31-BDB5-960D90AD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4426-93B4-4D18-A04F-1BCBDFFF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FF9C-5936-4189-A5BF-B274CDC2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AB3-D332-4E1E-96B4-D077313D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7E85-DC30-4A6F-9B87-F946EAAA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D95C-A99D-4255-9087-212F5BDA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EBE4-ACFC-4C59-9525-B5E6AD3D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FFB6-EB4F-4868-AAF2-75800074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C9F7-C282-4680-A0F2-805642C7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B1F-5F82-4C3A-8B80-9AD35420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2B4-242A-41F1-92DF-3911674D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948-2AFF-4B1B-BCA6-EA53C104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839-505C-4A05-9222-37B5C6FF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409-5969-4D35-BAC4-E0BDB079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E75-345E-44B3-8E1A-9C42A97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7ED-579C-4718-B1BC-95FD02FE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0767-B498-456A-B9BD-4398D92076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2494-E825-4515-A34D-705334B3A2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5.2 The Structure of the At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4" descr="ANd9GcRTTudlic-3OM-we3HQIFmWs7FdA9sXEbSx6mBBPvHLgJD7SB9mWA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85800" y="1523880"/>
          <a:ext cx="8229600" cy="33530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Standard Atomic No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Name of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Atomic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M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Number of Electr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Number of Prot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Number of Neutr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CA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CA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e7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pic>
        <p:nvPicPr>
          <p:cNvPr id="119" name="Picture 10" descr="notation"/>
          <p:cNvPicPr/>
          <p:nvPr/>
        </p:nvPicPr>
        <p:blipFill>
          <a:blip r:embed="rId1"/>
          <a:srcRect l="12070" t="17511" r="18971" b="12486"/>
          <a:stretch/>
        </p:blipFill>
        <p:spPr>
          <a:xfrm>
            <a:off x="7010280" y="5029200"/>
            <a:ext cx="17528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Bohr Rutherford Diagr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90040" y="1523520"/>
            <a:ext cx="8248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ow the quantities and locations of protons, electrons and neutrons in an atom (used for the 1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20 el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ic Number = #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# of neutrons = Mass Number –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# of electrons = # of protons in a neutral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an atom of Heli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ic # = # of protons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# of neutrons = Mass Number – Atomic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= 4  -  2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# of electrons = # of protons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Bohr-Rutherford Diagram for H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Arc 3"/>
          <p:cNvSpPr/>
          <p:nvPr/>
        </p:nvSpPr>
        <p:spPr>
          <a:xfrm rot="16200000">
            <a:off x="2392920" y="4750560"/>
            <a:ext cx="1571760" cy="2500200"/>
          </a:xfrm>
          <a:custGeom>
            <a:avLst/>
            <a:gdLst/>
            <a:ahLst/>
            <a:rect l="l" t="t" r="r" b="b"/>
            <a:pathLst>
              <a:path stroke="0" w="1571625" h="2500312">
                <a:moveTo>
                  <a:pt x="829827" y="1963"/>
                </a:moveTo>
                <a:cubicBezTo>
                  <a:pt x="1243697" y="38901"/>
                  <a:pt x="1568358" y="580930"/>
                  <a:pt x="1571601" y="1240374"/>
                </a:cubicBezTo>
                <a:cubicBezTo>
                  <a:pt x="1574788" y="1888366"/>
                  <a:pt x="1266216" y="2432818"/>
                  <a:pt x="860750" y="2494615"/>
                </a:cubicBezTo>
                <a:lnTo>
                  <a:pt x="785813" y="1250156"/>
                </a:lnTo>
                <a:lnTo>
                  <a:pt x="829827" y="1963"/>
                </a:lnTo>
                <a:close/>
              </a:path>
              <a:path fill="none" w="1571625" h="2500312">
                <a:moveTo>
                  <a:pt x="829827" y="1963"/>
                </a:moveTo>
                <a:cubicBezTo>
                  <a:pt x="1243697" y="38901"/>
                  <a:pt x="1568358" y="580930"/>
                  <a:pt x="1571601" y="1240374"/>
                </a:cubicBezTo>
                <a:cubicBezTo>
                  <a:pt x="1574788" y="1888366"/>
                  <a:pt x="1266216" y="2432818"/>
                  <a:pt x="860750" y="2494615"/>
                </a:cubicBezTo>
              </a:path>
            </a:pathLst>
          </a:custGeom>
          <a:noFill/>
          <a:ln w="9360">
            <a:solidFill>
              <a:srgbClr val="c9c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2928960" y="528624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6"/>
          <p:cNvSpPr/>
          <p:nvPr/>
        </p:nvSpPr>
        <p:spPr>
          <a:xfrm>
            <a:off x="2143080" y="4429080"/>
            <a:ext cx="1928880" cy="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2857680" y="3857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eft Arrow 10"/>
          <p:cNvSpPr/>
          <p:nvPr/>
        </p:nvSpPr>
        <p:spPr>
          <a:xfrm>
            <a:off x="4419720" y="4114800"/>
            <a:ext cx="1495440" cy="28584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Arrow 12"/>
          <p:cNvSpPr/>
          <p:nvPr/>
        </p:nvSpPr>
        <p:spPr>
          <a:xfrm>
            <a:off x="4419720" y="5638680"/>
            <a:ext cx="1547640" cy="214560"/>
          </a:xfrm>
          <a:prstGeom prst="leftArrow">
            <a:avLst>
              <a:gd name="adj1" fmla="val 50000"/>
              <a:gd name="adj2" fmla="val 49924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6215040" y="39290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# of electrons in 1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orbital (energy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x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6367320" y="535464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# of protons 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# of neutron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eft Brace 16"/>
          <p:cNvSpPr/>
          <p:nvPr/>
        </p:nvSpPr>
        <p:spPr>
          <a:xfrm>
            <a:off x="1571760" y="5143680"/>
            <a:ext cx="357120" cy="150012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500120"/>
              <a:gd name="textAreaBottom" fmla="*/ 149112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5400" y="10800"/>
                  <a:pt x="0" y="10800"/>
                </a:cubicBezTo>
                <a:cubicBezTo>
                  <a:pt x="54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500040" y="57150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1905120" y="2895480"/>
            <a:ext cx="25146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2209680" y="3124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Bohr-Rutherford Diagram for K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928960" y="528624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9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0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4"/>
          <p:cNvSpPr/>
          <p:nvPr/>
        </p:nvSpPr>
        <p:spPr>
          <a:xfrm>
            <a:off x="2143080" y="4857840"/>
            <a:ext cx="1928880" cy="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857680" y="42861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6"/>
          <p:cNvSpPr/>
          <p:nvPr/>
        </p:nvSpPr>
        <p:spPr>
          <a:xfrm>
            <a:off x="2133720" y="4114800"/>
            <a:ext cx="1928520" cy="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2895480" y="3595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eft Arrow 8"/>
          <p:cNvSpPr/>
          <p:nvPr/>
        </p:nvSpPr>
        <p:spPr>
          <a:xfrm>
            <a:off x="4357800" y="4572000"/>
            <a:ext cx="1571400" cy="28584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eft Arrow 9"/>
          <p:cNvSpPr/>
          <p:nvPr/>
        </p:nvSpPr>
        <p:spPr>
          <a:xfrm>
            <a:off x="4343400" y="3809880"/>
            <a:ext cx="1571760" cy="28584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Arrow 10"/>
          <p:cNvSpPr/>
          <p:nvPr/>
        </p:nvSpPr>
        <p:spPr>
          <a:xfrm>
            <a:off x="4343400" y="5638680"/>
            <a:ext cx="1623960" cy="214560"/>
          </a:xfrm>
          <a:prstGeom prst="leftArrow">
            <a:avLst>
              <a:gd name="adj1" fmla="val 50000"/>
              <a:gd name="adj2" fmla="val 49933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eft Brace 11"/>
          <p:cNvSpPr/>
          <p:nvPr/>
        </p:nvSpPr>
        <p:spPr>
          <a:xfrm>
            <a:off x="1571760" y="5143680"/>
            <a:ext cx="357120" cy="150012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500120"/>
              <a:gd name="textAreaBottom" fmla="*/ 149112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5400" y="10800"/>
                  <a:pt x="0" y="10800"/>
                </a:cubicBezTo>
                <a:cubicBezTo>
                  <a:pt x="54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500040" y="57150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13"/>
          <p:cNvSpPr/>
          <p:nvPr/>
        </p:nvSpPr>
        <p:spPr>
          <a:xfrm rot="16200000">
            <a:off x="2392920" y="4750560"/>
            <a:ext cx="1571760" cy="2500200"/>
          </a:xfrm>
          <a:custGeom>
            <a:avLst/>
            <a:gdLst/>
            <a:ahLst/>
            <a:rect l="l" t="t" r="r" b="b"/>
            <a:pathLst>
              <a:path stroke="0" w="1571625" h="2500312">
                <a:moveTo>
                  <a:pt x="829827" y="1963"/>
                </a:moveTo>
                <a:cubicBezTo>
                  <a:pt x="1243697" y="38901"/>
                  <a:pt x="1568358" y="580930"/>
                  <a:pt x="1571601" y="1240374"/>
                </a:cubicBezTo>
                <a:cubicBezTo>
                  <a:pt x="1574788" y="1888366"/>
                  <a:pt x="1266216" y="2432818"/>
                  <a:pt x="860750" y="2494615"/>
                </a:cubicBezTo>
                <a:lnTo>
                  <a:pt x="785813" y="1250156"/>
                </a:lnTo>
                <a:lnTo>
                  <a:pt x="829827" y="1963"/>
                </a:lnTo>
                <a:close/>
              </a:path>
              <a:path fill="none" w="1571625" h="2500312">
                <a:moveTo>
                  <a:pt x="829827" y="1963"/>
                </a:moveTo>
                <a:cubicBezTo>
                  <a:pt x="1243697" y="38901"/>
                  <a:pt x="1568358" y="580930"/>
                  <a:pt x="1571601" y="1240374"/>
                </a:cubicBezTo>
                <a:cubicBezTo>
                  <a:pt x="1574788" y="1888366"/>
                  <a:pt x="1266216" y="2432818"/>
                  <a:pt x="860750" y="2494615"/>
                </a:cubicBezTo>
              </a:path>
            </a:pathLst>
          </a:custGeom>
          <a:noFill/>
          <a:ln w="9360">
            <a:solidFill>
              <a:srgbClr val="c9c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4"/>
          <p:cNvSpPr/>
          <p:nvPr/>
        </p:nvSpPr>
        <p:spPr>
          <a:xfrm>
            <a:off x="2133720" y="3429000"/>
            <a:ext cx="1928520" cy="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857680" y="29098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eft Arrow 16"/>
          <p:cNvSpPr/>
          <p:nvPr/>
        </p:nvSpPr>
        <p:spPr>
          <a:xfrm>
            <a:off x="4343400" y="3124080"/>
            <a:ext cx="1571760" cy="28584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7"/>
          <p:cNvSpPr/>
          <p:nvPr/>
        </p:nvSpPr>
        <p:spPr>
          <a:xfrm>
            <a:off x="2133720" y="2819520"/>
            <a:ext cx="1928520" cy="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8"/>
          <p:cNvSpPr/>
          <p:nvPr/>
        </p:nvSpPr>
        <p:spPr>
          <a:xfrm>
            <a:off x="2857680" y="2300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e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eft Arrow 19"/>
          <p:cNvSpPr/>
          <p:nvPr/>
        </p:nvSpPr>
        <p:spPr>
          <a:xfrm>
            <a:off x="4343400" y="2514600"/>
            <a:ext cx="1571760" cy="28584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6095880" y="3778200"/>
            <a:ext cx="27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# of electrons in 2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orbital (energy level)   Max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6172200" y="4524480"/>
            <a:ext cx="262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# of electrons in 1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orbital (energy level)   Max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2"/>
          <p:cNvSpPr/>
          <p:nvPr/>
        </p:nvSpPr>
        <p:spPr>
          <a:xfrm>
            <a:off x="6286680" y="549756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# of protons 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# of neutron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9"/>
          <p:cNvSpPr/>
          <p:nvPr/>
        </p:nvSpPr>
        <p:spPr>
          <a:xfrm>
            <a:off x="6095880" y="304812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# of electrons in 3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orbital (energy level)     Max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0"/>
          <p:cNvSpPr/>
          <p:nvPr/>
        </p:nvSpPr>
        <p:spPr>
          <a:xfrm>
            <a:off x="6095880" y="2286000"/>
            <a:ext cx="259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# of electrons in 4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orbital (energy level)   Max = 8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1905120" y="1676520"/>
            <a:ext cx="2438280" cy="48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2438280" y="1752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Isoto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of an element have the same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will have a different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Most Li atoms have 3 protons and 4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Number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ave only 3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Number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that have the same number of protons but different numbers of neutrons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At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31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atom is made up of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ubatomic parti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rotons   (p</a:t>
            </a:r>
            <a:r>
              <a:rPr b="0" lang="en-CA" sz="31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990033"/>
                </a:solidFill>
                <a:latin typeface="Arial"/>
              </a:rPr>
              <a:t>E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lectrons (e</a:t>
            </a:r>
            <a:r>
              <a:rPr b="0" lang="en-CA" sz="31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990033"/>
                </a:solidFill>
                <a:latin typeface="Arial"/>
              </a:rPr>
              <a:t>N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utrons (n</a:t>
            </a:r>
            <a:r>
              <a:rPr b="0" lang="en-CA" sz="31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ANd9GcRTTudlic-3OM-we3HQIFmWs7FdA9sXEbSx6mBBPvHLgJD7SB9mWA"/>
          <p:cNvPicPr/>
          <p:nvPr/>
        </p:nvPicPr>
        <p:blipFill>
          <a:blip r:embed="rId1"/>
          <a:stretch/>
        </p:blipFill>
        <p:spPr>
          <a:xfrm>
            <a:off x="5334120" y="1676520"/>
            <a:ext cx="329076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protons and neutrons are found in the nucleus at the centre of the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electrons are found “orbiting” around the nucleus in specific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ANd9GcRTTudlic-3OM-we3HQIFmWs7FdA9sXEbSx6mBBPvHLgJD7SB9mWA"/>
          <p:cNvPicPr/>
          <p:nvPr/>
        </p:nvPicPr>
        <p:blipFill>
          <a:blip r:embed="rId1"/>
          <a:stretch/>
        </p:blipFill>
        <p:spPr>
          <a:xfrm>
            <a:off x="914400" y="182880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Subatomic Partic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1752480"/>
          <a:ext cx="7772400" cy="37339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Gungsuh"/>
                          <a:ea typeface="Times New Roman"/>
                        </a:rPr>
                        <a:t>Parti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Gungsuh"/>
                          <a:ea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Gungsuh"/>
                          <a:ea typeface="Times New Roman"/>
                        </a:rPr>
                        <a:t>Ch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Gungsuh"/>
                          <a:ea typeface="Times New Roman"/>
                        </a:rPr>
                        <a:t>M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cle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er sh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tr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cle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number of prot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nucleus of an a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tomic number identifies the atom as a particular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1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protons and neutr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an at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0" descr="2-He-4-labeled"/>
          <p:cNvPicPr/>
          <p:nvPr/>
        </p:nvPicPr>
        <p:blipFill>
          <a:blip r:embed="rId1"/>
          <a:stretch/>
        </p:blipFill>
        <p:spPr>
          <a:xfrm>
            <a:off x="4191120" y="3276720"/>
            <a:ext cx="4267080" cy="1174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0033"/>
                </a:solidFill>
                <a:latin typeface="Arial"/>
              </a:rPr>
              <a:t>Standard Atomic Nota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notation"/>
          <p:cNvPicPr/>
          <p:nvPr/>
        </p:nvPicPr>
        <p:blipFill>
          <a:blip r:embed="rId1"/>
          <a:srcRect l="12070" t="17511" r="18971" b="12486"/>
          <a:stretch/>
        </p:blipFill>
        <p:spPr>
          <a:xfrm>
            <a:off x="4648320" y="1905120"/>
            <a:ext cx="4267080" cy="38401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833400" y="1752480"/>
            <a:ext cx="35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s a standard symbol to represent the element (ex. H for hydrogen, Li for lith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At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ng the Number of Sub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= number of pro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 number of protons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neu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ass number – 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prot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number of elec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utral a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ctivity 5-4, p. 189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412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activity and complete #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for number 3, do not use Appendix A, instead use the periodic table on p. 197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under the symbol, rounded. Ex. zinc 65.4 = 6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Answers to Activity 5-4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.  carbon = C, hydrogen = H, nitrogen =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ule: use the first letter (capital)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. a. Calcium = Ca, use the first two letters, first letter only capita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. C cannot be used as it is already used for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. silver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argent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Ag, gold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aur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Au, copper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cupr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Cu, iron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ferr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Fe, mercury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hydrargyr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Hg, lead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plumb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Pb, tin (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stannu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= 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dentify rule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. Next slid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8:16:38Z</dcterms:created>
  <dc:creator>OCDSB User</dc:creator>
  <dc:description/>
  <dc:language>en-US</dc:language>
  <cp:lastModifiedBy>Katie</cp:lastModifiedBy>
  <dcterms:modified xsi:type="dcterms:W3CDTF">2014-10-01T19:37:27Z</dcterms:modified>
  <cp:revision>76</cp:revision>
  <dc:subject/>
  <dc:title>Atomic Theories and Subatomic Particles</dc:title>
</cp:coreProperties>
</file>